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9E68-1CDE-41EB-9D6D-2A71E9BE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CE27-96C0-43DC-BD6F-E92721FC7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2F5-437D-4170-A141-CC52D033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97D-C1F3-45C0-B2F7-49525320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3618-CAF7-4078-9B26-B7B365C88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57ED-E62D-4138-80A6-CF5EA7C9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3E49-CE51-459E-8964-9610C1D1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8677-5661-442D-BF2E-4C091119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DA9-1112-42AD-ABD1-97395784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92C7-373B-4F82-95EF-36C9BB83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A076-B5A9-4A5C-96A3-31A1A034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A99-66B6-4EC7-9058-1609DDFE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7F6E-4DE2-4B5E-BE3E-DE328736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C337-2012-45EF-B4A1-8B62B5F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C069-797B-42C8-8613-3B97AA344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8944-9EB7-402D-B25A-1FBECA49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F869-7F1F-4FE0-AEA7-6ADF521E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49D-E108-494D-80D5-D2939D9B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A3F-0782-4017-A49D-81170728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0BB-4447-4C31-BF4B-FC67FD11D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3FAC-CCFD-4CC4-90C3-0C5DAA0D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298-081D-4A92-9620-EF3F5FCC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89D-6151-44BF-A843-A1CACA15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806-4434-4213-94B8-563D62E8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1346-9550-4921-BDB3-A1996A299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50F8-DAB7-4CE8-98D4-EA5384DFB9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133280" y="2166840"/>
            <a:ext cx="683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Taming the Tong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819520" y="3352680"/>
            <a:ext cx="34290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09880" y="3352680"/>
            <a:ext cx="2667240" cy="255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04920" y="838080"/>
            <a:ext cx="3238560" cy="5238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228760" cy="297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001040" y="1600200"/>
            <a:ext cx="469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are the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524400" cy="2880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140360" cy="2832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33520" y="1676520"/>
            <a:ext cx="3784320" cy="4572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3520" y="609480"/>
            <a:ext cx="393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indsurf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227808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343400" y="609480"/>
            <a:ext cx="3657600" cy="2438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09480" y="380880"/>
            <a:ext cx="2390760" cy="2706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48400" y="4267080"/>
            <a:ext cx="469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are the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919840" y="5943600"/>
            <a:ext cx="268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James 3:1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33280" y="2166840"/>
            <a:ext cx="683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Taming the Tongu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19520" y="3352680"/>
            <a:ext cx="34290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6T13:19:31Z</dcterms:created>
  <dc:creator>Tim Schmoyer</dc:creator>
  <dc:description/>
  <dc:language>en-US</dc:language>
  <cp:lastModifiedBy>Tim Schmoyer</cp:lastModifiedBy>
  <dcterms:modified xsi:type="dcterms:W3CDTF">2006-10-28T07:29:32Z</dcterms:modified>
  <cp:revision>4</cp:revision>
  <dc:subject/>
  <dc:title>Slide 1</dc:title>
</cp:coreProperties>
</file>